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2B55-D549-4ACC-A5D9-2758E3ED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7373-8DC6-4C96-827D-C5413F94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078F-FE61-4424-A254-25A0EFC0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8069-E50D-4377-A8D7-EE5407F7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6521-0637-4D7A-96CC-E9E1AEEF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436B-06FF-4E2F-A37A-4F77C5EE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14B4-DB89-49B7-8590-0CE5F81A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5D7F-49A5-4D48-AAE5-83E0F82C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BB62-F09B-4840-BB1C-A661E164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7AA4-C612-481D-9882-1E084832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02F8-8C6A-4051-9B9B-A3F6EBFC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A9B0-9EB3-4739-91D0-0E374D64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AED5-1E31-410E-80EE-D378E3AC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2402-E507-4C21-971D-B566B8BA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9D32-0291-49C3-8892-E536CC1D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74EA-C217-4754-8529-1989AEFF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001B-01C2-46A8-A81B-84DA060B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7EE1-38DD-4C15-86E9-9A9F45C3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CA27-E810-4734-8ABE-7BCD3A85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769B-442F-4570-8B8B-BF0D3844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C546-CD55-4964-A96D-D5E80F51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CA0C-5ECA-4767-BCB4-2CE97B23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A65-EA70-4533-84CD-C906ACE0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6169-EF94-4BA8-912D-74651D22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B46C-A367-434E-8017-F3774CEB607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1374-8753-4366-90BD-239EDD43F45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一章  经济全球化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主要内容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经济全球化的产生与发展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经济全球化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经济全球化的特征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经济全球化的发展趋势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一、经济全球化的产生与发展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经济全球化的定义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从资源配置角度的定义：资源配置的全球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从生产关系角度的定义：资本主义生产关系的全球普遍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经济全球化的发展历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中期以前的萌芽阶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中期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初的生长阶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两次世界大战期间以及战后的曲折发展阶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末而今的迅速扩展与深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经济全球化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跨国公司作用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技术进步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国际机构驱动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矛盾演化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综合因素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世界政治环境的变化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科学技术突破性发展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跨国公司的全球战略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新自由主义的兴起（国际组织奉行“华盛顿共识”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ashington Consensus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）最早由当时任世界银行官员的经济学家约翰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·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威廉姆森（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John Williamson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）于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990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年提出。当时他提出这一“共识”基于拉美国家截至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80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年代末经济改革的既有成败经验，提出“共识”的意图是把它作为拉美国家经济改革的指导思想。“华盛顿共识”出台之后，得到了世界银行和国际货币基金组织的支持。主要内容：税收改革（降低边际税率和扩大税基）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利率自由化，竞争性的汇率，贸易自由化，外国直接投资的流入自由化，私有化，放松管制（以消除进入或者退出障碍），保护产权。世界银行和国际货币基金组织等国际组织把“华盛顿共识”作为发展援助或者危机救援的 “前置条件”使用，推进经济自由化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三、经济全球化的特征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知识经济和新技术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信息技术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为基础的经济全球化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分工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垂直型、水平型）日益深化的经济全球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经济主体的多元化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家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跨国公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跨国银行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市场体系的全球化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全球化与国际间区域一体化和集团化并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国的核心竞争力发生变化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知识和人力资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发达国家在经济全球化过程中起着主导作用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全球化背景下更加凸显国家和民族利益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四、经济全球化的影响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全球化对发达国家的影响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积极影响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拓展市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促进贸易增长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扩大直接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竞争推动技术创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消极影响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外部冲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资源与环境问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就业问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全球化对发展中国家的影响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机遇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吸引外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引进外来直接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推动技术进步和产业调整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增强企业竞争力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跨国公司得以发展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贸易发展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不利影响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分工中的不利地位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外部冲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发展中国家的发展不平衡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主权受到冲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安全受到挑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五、经济全球化发展趋势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金融业在经济全球化中举足轻重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国际贸易进一步推动市场的一体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跨国公司推动着全球化的深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信息技术将彻底改变人类的生产与生活方式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经济风险全球化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05:56:29Z</dcterms:created>
  <dc:creator>YPL</dc:creator>
  <dc:description/>
  <dc:language>en-US</dc:language>
  <cp:lastModifiedBy>Dell</cp:lastModifiedBy>
  <dcterms:modified xsi:type="dcterms:W3CDTF">2021-08-23T22:43:04Z</dcterms:modified>
  <cp:revision>15</cp:revision>
  <dc:subject/>
  <dc:title>第一章  经济全球化</dc:title>
</cp:coreProperties>
</file>